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178A-B8E9-4006-90BA-FAAB2C403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EA94-9E70-47CC-9C2A-D31E075EBF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1753-5E51-4D80-8A88-33BD6CCF47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F4D2-4449-4B1F-88E3-AEA1FF3E3C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98CB-E37B-4C2E-A8AB-40667835B1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F53F-7943-482D-ABE7-4BE05F3E5A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CF4A-678A-45A0-9531-BDC54B063D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1970-9FC9-426B-A628-C8DEDF3FEA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243E-E4DC-4D2C-9E78-A9C6B48968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4E87-8B34-4EE9-8D95-0773B9E1AC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029B-74E3-4DB4-A1C8-A0FF7E84E4B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0F249-AFE1-44D7-9D5D-93E255CC1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758E-A41B-4CA3-803E-BCCFEF3E9C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F4F2E-B310-40B3-AA71-272411B8A7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86C9D-B00D-47AF-B044-D15147931F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E081D-7D21-4266-843D-441C0A67B2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F401B-B0CC-4331-9E13-0A26F6EDE2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90562-B709-4D98-8646-1151480873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FD273-B174-4DBE-85BB-1A04E2EEFE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42EFC-CDFB-42C8-8B40-05CB1C5EEA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1C6E2-D3D4-4E5F-BCF4-229EC240685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BA593-0F7B-4423-9F11-ECC7C48116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6156C-4E27-4C0D-8B92-3E8BE5D4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1198-6787-41DF-82EF-B14F5936AE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317AA-4ACC-485F-A89B-60BE4432A5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A4F08-098B-41EA-8AB6-C096D8DD656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A1520-C01C-48DF-BA50-B703DF89EA0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71EAB-BFD9-45A8-9560-B900C2A2C1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BFECE-4DF3-492B-B1D6-86C1F31590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C3121-EA45-488B-94A4-D54BA58809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0B1E0-AB0B-473F-87FA-F230B0135B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6AEE4-C0DF-49F5-82B1-6120C169E6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3E2BB-A818-47EC-BC8C-F9920ABD1E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5A3E9-61CA-462A-9689-EE5B14F3D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226E-5DE3-44EE-8D07-D0C7B17B107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9FF67-86EF-4A5B-B07B-2E11E4FED6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4F81E-463E-4F48-BD63-E0763DBDD8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5AED0-38CC-45A0-977E-3639F8D86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0292-0B67-4C40-A71A-E3A3C9504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E26B-FCB1-49B3-BCC9-361E218D36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CF62-ABA1-44AD-B1DB-09D57E438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9F9B-ABE6-477E-A04A-C1470999E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E41F-6E08-41B9-BC3F-84958A8A94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00D4-F9CE-430F-A1D0-310A3E3A6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BF0C-0990-44C4-9AF7-77CA8CDCD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E36B-D6AE-44C8-A5D1-00C0867BA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A024-9B1A-4704-BF1F-C9A1961A7F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4351-6B37-4EA9-AB79-7AA75EE4E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34B9-2936-4BC3-A1DC-194554E8B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B79A-63DC-436F-95C1-BEC738F757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FAA-5747-4404-B897-2EB9B89D0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AA4-12A9-4F1E-A4FA-E9A1986C9B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A5E-51D6-412B-9A75-D35919CC57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D69-5287-40F6-A921-9BB5BDAED7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C9B-FAF2-4746-B882-457568F98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EA5E-C93B-4A77-A6B6-A67E383CD1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1B9-B830-4266-A4FF-86645F1D9E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D05-5E2C-4F6A-B0EF-8FCAA68382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6A7-6577-4D88-8CAD-B34E8CAB90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674-5FCD-45FF-B0C9-45A57DA70E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612-FD56-4890-8412-0DE41033DC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81E-16A7-4442-8CD9-20ADC039DC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386-8342-43C4-A509-00BDB55664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7708C-58BC-4864-9074-6D0F859E15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AB94E-8BB2-4E16-97F9-B5796278DC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0BBA-E231-4937-A4E3-916110416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4517-CCFC-4F4C-9E02-5189DA566E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20B7-9EC2-4EBB-81A6-5092222319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68AA-3236-4F88-8220-A59EDAC529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820F2-C56F-41F3-9A8A-CE8E3BD859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E942B-9E2D-4574-861F-E07DD9025B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655B0-400D-44FB-8FE6-26D131ECC9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DBC8-173C-4878-B368-F5A652DDC8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C92E-C06E-4F6A-863E-116497A0A9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ACB4B-5766-4701-9B10-8B53D1EEC0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C1A93-1E1B-4BCA-B32D-18544A0684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BDE51-2871-411B-A3CF-59B979F0F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19EB-1325-4216-85CE-36C3CF3F61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04E7-88BB-4AA6-8F7C-EF0DC8EE6B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44564-6748-4246-9FC5-3DEC5F9A13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16103-AA65-41D5-8CA2-8749BD0EB0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F864-BFA4-4008-8E7B-2A471432F1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16502-4EDB-4AAF-9E3D-5B24C1ECE3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E30D7-BF8F-4F4D-8459-BC7013F7A8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E3D8-1CA2-4A9C-9CF1-9696EF9C6E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EEEBF-1A08-4E38-82BD-55948FBA36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FDD8E-17F1-4ADF-BA3B-ACD3CFD759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B2C2-A37B-45EC-97A2-F9348D03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4590-E72D-4659-8470-E479D139A5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C33D-0E65-4740-9A36-9FE3676B2C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C67B-1C9E-4B98-9B14-CB04C423B2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474-908F-4574-9349-51613713C7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10E9-BB9B-4342-BF6D-BF876BF1B2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5EE-2EB5-4610-9019-7195CEA35B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D21-79A7-458A-8E2F-8B13B1F1E5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C846-04DB-4CFD-BAAF-E3A20C6C22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E889-0ACF-4EF7-887A-937AD4AAEC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9BBA-3DF8-4872-BE83-6181EE8968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84FD-B5DB-41FA-B4D7-94B9064D8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6927-7028-4D49-9843-F4472A4280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2F7D-1819-45F4-961A-F2E7753E9C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5EC-FDC0-4301-A8A4-CA0752A145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3CC7-EE19-4B7F-96E8-4F614869B6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04FA5-2FBC-4534-B31D-D27AF6A30D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6A0E1-20FE-4409-AC0E-C7A9769D1B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2158E-5491-496E-B3F2-FD39A99DDC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53B89-ECB5-4B7E-A2E1-030E163314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3D20E-8E05-4AA5-A3A0-5FB047C722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5B099-2A98-4D26-8BAA-46DFA3233D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59EFF-D16F-4010-9C8A-801C8ECA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1ADF-EB59-4E53-A660-0D1FBE0B49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843E3-E3CC-4F74-A6F1-41937A1598B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5AD31-D8D5-4B65-92D4-F7129472D3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4FC1C-935F-4EB6-902B-813ED226CE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A597F-EBBD-4354-B2FE-5F8422FF7E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919EF-FF56-4E86-B5C1-4A38C7AECA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D7552-F3A8-44A1-9103-B7930E4B45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AE219-5D09-4EF7-88C3-F8843EDB12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FA9A8-1DC8-48B8-A163-C8728A65F4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AB175-91EC-4A05-9412-CD562D177A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66D40-D92B-4BF5-801A-1421BA867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F528-A751-440A-991B-1945F6370F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B3C2B-3BD7-4E01-A206-9A0BCD3BB21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C4315-3805-4ADF-88E6-F340DDB2D4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DE633-9D0A-42FB-8A6D-1823138529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68D8A-2733-4485-89F2-68D55EA887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8B49D-0ED5-4F80-B185-9BAB859AE6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8DF23-14CB-47FB-969F-9EA69C7F24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A5CE0-75D3-45E2-A6C7-2B6CF342A8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A3A0-7F91-4E0E-8D59-2DAD92E4B8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6096-B06E-457A-82DD-E68F18B990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87CE-3D2D-45B6-949D-96FE05AE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A58C-A5BD-40D0-954D-0DE61A1406A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55280" y="4190760"/>
            <a:ext cx="10617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9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Num" idx="10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6EE-C5A2-40BF-9DC9-66882928313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Num" idx="11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6C66-B329-4472-9A8D-AC992B44D11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3"/>
          <p:cNvSpPr>
            <a:spLocks noGrp="1"/>
          </p:cNvSpPr>
          <p:nvPr>
            <p:ph type="body"/>
          </p:nvPr>
        </p:nvSpPr>
        <p:spPr>
          <a:xfrm>
            <a:off x="946080" y="879480"/>
            <a:ext cx="10614240" cy="88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4760" y="-177840"/>
            <a:ext cx="971388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10497600" y="8889840"/>
            <a:ext cx="3430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5D0-9210-451F-BEC1-DE84C3717CFA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044720" y="1023480"/>
            <a:ext cx="11693520" cy="87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1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6EB-AD90-4A71-A473-F00113A4D52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781-400E-434B-8FCD-936A46E7BEDA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69480"/>
            <a:ext cx="11709360" cy="2266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7544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C39-27C8-4BBA-BE12-79D9C7E673F3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156-B4F9-4FDB-9A47-8A3BC6DAC09F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69480"/>
            <a:ext cx="11709360" cy="2266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067544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878-18E6-48AF-93D5-49A4D934B2BC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0F97-2043-44BA-9C32-8A0D6A488B4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Num" idx="9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B05-6C74-45FC-A5B9-91CF4013DF0D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655280" y="4190760"/>
            <a:ext cx="10617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9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3120" y="1041480"/>
            <a:ext cx="1076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t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isc.ac.uk/uploaded_documents/VRE%20roadmap%20v4.pdf" TargetMode="External"/><Relationship Id="rId2" Type="http://schemas.openxmlformats.org/officeDocument/2006/relationships/hyperlink" Target="http://connect.educause.edu/Library/EDUCAUSE+Review/CuratingScientificWebServ/47226" TargetMode="External"/><Relationship Id="rId3" Type="http://schemas.openxmlformats.org/officeDocument/2006/relationships/hyperlink" Target="http://doi.ieeecomputersociety.org/10.1109/eScience.2008.86" TargetMode="External"/><Relationship Id="rId4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224000" y="6362280"/>
            <a:ext cx="106171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Dr. Paolo Missi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Prof. Carole Go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Management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of Computer Science, University of Manchester,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additional material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f. Dave DeRo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v. of Southampton, U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0" t="0" r="63455" b="0"/>
          <a:stretch/>
        </p:blipFill>
        <p:spPr>
          <a:xfrm>
            <a:off x="8255160" y="0"/>
            <a:ext cx="4749480" cy="11048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rcRect l="0" t="0" r="10413" b="0"/>
          <a:stretch/>
        </p:blipFill>
        <p:spPr>
          <a:xfrm>
            <a:off x="5440320" y="1009800"/>
            <a:ext cx="519444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0" y="0"/>
            <a:ext cx="8778240" cy="2660040"/>
            <a:chOff x="0" y="0"/>
            <a:chExt cx="8778240" cy="2660040"/>
          </a:xfrm>
        </p:grpSpPr>
        <p:pic>
          <p:nvPicPr>
            <p:cNvPr id="444" name="" descr=""/>
            <p:cNvPicPr/>
            <p:nvPr/>
          </p:nvPicPr>
          <p:blipFill>
            <a:blip r:embed="rId4"/>
            <a:srcRect l="0" t="0" r="27735" b="0"/>
            <a:stretch/>
          </p:blipFill>
          <p:spPr>
            <a:xfrm>
              <a:off x="0" y="0"/>
              <a:ext cx="36734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765880" y="2293920"/>
              <a:ext cx="601236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Arial"/>
                  <a:ea typeface="Arial"/>
                </a:rPr>
                <a:t>Scientific Workflow Management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4175280" y="4408560"/>
            <a:ext cx="84960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40680" tIns="46800" bIns="4680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4674"/>
                </a:solidFill>
                <a:latin typeface="Calibri Bold"/>
                <a:ea typeface="Calibri Bold"/>
              </a:rPr>
              <a:t>e-Labs, Research Objects, and Prove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914400" y="2870280"/>
            <a:ext cx="2336760" cy="2146320"/>
          </a:xfrm>
          <a:prstGeom prst="rect">
            <a:avLst/>
          </a:prstGeom>
          <a:ln w="0">
            <a:noFill/>
          </a:ln>
          <a:effectLst>
            <a:outerShdw dist="76164" dir="2573584" blurRad="0" rotWithShape="0">
              <a:srgbClr val="00000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6D51-82DB-466E-922E-A03F33FDC0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9550440" y="304920"/>
            <a:ext cx="2336760" cy="302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450120" y="7883640"/>
            <a:ext cx="2765160" cy="79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3274920" y="5732640"/>
            <a:ext cx="2652840" cy="230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449280" y="2540160"/>
            <a:ext cx="2622600" cy="193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91" name=""/>
          <p:cNvGrpSpPr/>
          <p:nvPr/>
        </p:nvGrpSpPr>
        <p:grpSpPr>
          <a:xfrm>
            <a:off x="0" y="0"/>
            <a:ext cx="2133360" cy="9369000"/>
            <a:chOff x="0" y="0"/>
            <a:chExt cx="2133360" cy="9369000"/>
          </a:xfrm>
        </p:grpSpPr>
        <p:sp>
          <p:nvSpPr>
            <p:cNvPr id="592" name=""/>
            <p:cNvSpPr/>
            <p:nvPr/>
          </p:nvSpPr>
          <p:spPr>
            <a:xfrm>
              <a:off x="644400" y="6889680"/>
              <a:ext cx="1488960" cy="247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487520" cy="247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4543560" y="1943280"/>
            <a:ext cx="3483000" cy="170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4168800" y="1015920"/>
            <a:ext cx="20192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1760" y="4673520"/>
            <a:ext cx="14223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o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551880" y="8331120"/>
            <a:ext cx="1828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7800" y="5981760"/>
            <a:ext cx="2324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ta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7"/>
          <a:stretch/>
        </p:blipFill>
        <p:spPr>
          <a:xfrm>
            <a:off x="10769760" y="3759120"/>
            <a:ext cx="1765080" cy="18432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0972800" y="6197760"/>
            <a:ext cx="1625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a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8"/>
          <a:stretch/>
        </p:blipFill>
        <p:spPr>
          <a:xfrm>
            <a:off x="7118280" y="3825720"/>
            <a:ext cx="2482920" cy="23115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961320" y="6126120"/>
            <a:ext cx="2019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l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62440" y="3679920"/>
            <a:ext cx="3240" cy="20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069400" y="2043000"/>
            <a:ext cx="1433520" cy="71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9448920" y="4673520"/>
            <a:ext cx="1828800" cy="20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464840" y="3352680"/>
            <a:ext cx="101592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927760" y="5216040"/>
            <a:ext cx="1332000" cy="7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323120" y="3679920"/>
            <a:ext cx="206280" cy="51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27760" y="7162920"/>
            <a:ext cx="1228680" cy="71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962920" y="5384520"/>
            <a:ext cx="2416320" cy="249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047760" y="2946240"/>
            <a:ext cx="152388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75040" y="4064040"/>
            <a:ext cx="1727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978440"/>
            <a:ext cx="149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62240" y="2552760"/>
            <a:ext cx="14097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2641680" y="4470120"/>
            <a:ext cx="120024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00800" y="7112160"/>
            <a:ext cx="1523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577440" y="7162920"/>
            <a:ext cx="20066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6560" y="1739880"/>
            <a:ext cx="1409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29400" y="3679920"/>
            <a:ext cx="1816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5011560"/>
            <a:ext cx="153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577440" y="4978440"/>
            <a:ext cx="1701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972800" y="3422520"/>
            <a:ext cx="203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07080" y="406440"/>
            <a:ext cx="2781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orkflow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49720" y="8690040"/>
            <a:ext cx="2743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orkflow 1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35680" y="8155080"/>
            <a:ext cx="250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on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914920" y="406440"/>
            <a:ext cx="658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Q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04920" y="203040"/>
            <a:ext cx="3149640" cy="1117440"/>
            <a:chOff x="304920" y="203040"/>
            <a:chExt cx="3149640" cy="1117440"/>
          </a:xfrm>
        </p:grpSpPr>
        <p:sp>
          <p:nvSpPr>
            <p:cNvPr id="628" name=""/>
            <p:cNvSpPr/>
            <p:nvPr/>
          </p:nvSpPr>
          <p:spPr>
            <a:xfrm>
              <a:off x="304920" y="203040"/>
              <a:ext cx="314964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2160" y="380880"/>
              <a:ext cx="3035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1600" tIns="38160" bIns="38160" anchor="ctr">
              <a:noAutofit/>
            </a:bodyPr>
            <a:p>
              <a:pPr marL="34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ul’s Pac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04920" y="203040"/>
            <a:ext cx="3149640" cy="2133720"/>
            <a:chOff x="304920" y="203040"/>
            <a:chExt cx="3149640" cy="2133720"/>
          </a:xfrm>
        </p:grpSpPr>
        <p:sp>
          <p:nvSpPr>
            <p:cNvPr id="631" name=""/>
            <p:cNvSpPr/>
            <p:nvPr/>
          </p:nvSpPr>
          <p:spPr>
            <a:xfrm>
              <a:off x="304920" y="203040"/>
              <a:ext cx="3149640" cy="213372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440" y="203040"/>
              <a:ext cx="29466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09800" tIns="38160" bIns="38160" anchor="ctr">
              <a:noAutofit/>
            </a:bodyPr>
            <a:p>
              <a:pPr marL="33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ul’s Research Objec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33360" y="914400"/>
            <a:ext cx="11147400" cy="32511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rcRect l="0" t="0" r="0" b="14348"/>
          <a:stretch/>
        </p:blipFill>
        <p:spPr>
          <a:xfrm>
            <a:off x="304920" y="4267080"/>
            <a:ext cx="6197400" cy="4572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04920" y="9042480"/>
            <a:ext cx="792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of the A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, 4 (Apr. 2008), 52-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06440" y="406440"/>
            <a:ext cx="661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tific Discourse Relationships Ontology Spec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10014120" y="2235240"/>
            <a:ext cx="2381040" cy="23367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6705720" y="4876920"/>
            <a:ext cx="6168960" cy="33526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8356680" y="8331120"/>
            <a:ext cx="405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Provena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12828600" cy="9753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379320" y="9183600"/>
            <a:ext cx="23515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vid Sh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06080" y="406080"/>
            <a:ext cx="1219212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alibri"/>
              </a:rPr>
              <a:t>David De Ro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der@ecs.soton.ac.u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alibri"/>
              </a:rPr>
              <a:t>Carole Go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ole.goble@manchester.ac.uk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wiki.myexperiment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0058400" y="406440"/>
            <a:ext cx="2460600" cy="8157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404640" y="406440"/>
            <a:ext cx="2814840" cy="11145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rcRect l="0" t="0" r="10413" b="0"/>
          <a:stretch/>
        </p:blipFill>
        <p:spPr>
          <a:xfrm>
            <a:off x="4572000" y="8158320"/>
            <a:ext cx="41148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06080" y="1726920"/>
            <a:ext cx="1219212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an, R., Allden, A., Boyd, D., Crouchley, R., Harris, N., Lyon, L., Robiette, A., De Roure, D. and Wilson, S. Roadmap for a UK Virtual Research Environment: Report of the JCSR VRE Working Group, JISC, 2004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jisc.ac.uk/uploaded_documents/VRE%20roadmap%20v4.pd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urating Scientific Web Services and Workf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Carole Goble and David De Roure. EDUCAUSE Review, vol. 43, no. 5 (September/October 20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connect.educause.edu/Library/EDUCAUSE+Review/CuratingScientificWebServ/4722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Roure, D., Goble, C., Bhagat, J., Cruickshank, D., Goderis, A., Michaelides, D. and Newman, D. (2008) myExperiment: Defining the Social Virtual Research Environment. In: 4th IEEE International Conference on e-Science, 7-12 December 2008, Indianapolis, Indiana, USA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doi:10.1109/eScience.2008.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Roure, D. and Goble, C. (2009) "Software Design for Empowering Scientists," IEEE Software, vol. 26, no. 1, pp. 88-95, January/February 2009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oi:10.1109/MS.2009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c Moreau, Juliana Freire, Joe Futrelle, Robert E. McGrath, Jim Myers, Patrick Paulson: The Open Provenance Model: An Overview. IPAW 2008: LNCS 5272, Springer-Verlag , pp. 323–326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406080" y="85680"/>
            <a:ext cx="12192120" cy="1641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13004640" cy="777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-4443840" y="4443840"/>
            <a:ext cx="9752040" cy="863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3238560" cy="27687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8559720" y="934236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800" tIns="0" bIns="0" anchor="t">
            <a:noAutofit/>
          </a:bodyPr>
          <a:p>
            <a:pPr marL="55440">
              <a:lnSpc>
                <a:spcPct val="92000"/>
              </a:lnSpc>
              <a:tabLst>
                <a:tab algn="l" pos="0"/>
                <a:tab algn="l" pos="50760"/>
                <a:tab algn="l" pos="685800"/>
                <a:tab algn="l" pos="1333440"/>
                <a:tab algn="l" pos="1968480"/>
                <a:tab algn="l" pos="2603520"/>
                <a:tab algn="l" pos="3251160"/>
                <a:tab algn="l" pos="3886200"/>
                <a:tab algn="l" pos="4533840"/>
                <a:tab algn="l" pos="5168880"/>
                <a:tab algn="l" pos="5803920"/>
                <a:tab algn="l" pos="6451560"/>
                <a:tab algn="l" pos="7086600"/>
                <a:tab algn="l" pos="7709040"/>
                <a:tab algn="l" pos="8356680"/>
                <a:tab algn="l" pos="8991720"/>
                <a:tab algn="l" pos="9639360"/>
                <a:tab algn="l" pos="10274400"/>
                <a:tab algn="l" pos="10909440"/>
                <a:tab algn="l" pos="11557080"/>
                <a:tab algn="l" pos="12192120"/>
                <a:tab algn="l" pos="12827160"/>
                <a:tab algn="l" pos="1283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 meeting,Santa Barbara, CA, July  2009 - P. Mis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74760" y="-177840"/>
            <a:ext cx="971388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ance in Taverna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778040" y="1600200"/>
            <a:ext cx="5549760" cy="654048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8242200" y="1015920"/>
            <a:ext cx="4533840" cy="2793960"/>
            <a:chOff x="8242200" y="1015920"/>
            <a:chExt cx="4533840" cy="2793960"/>
          </a:xfrm>
        </p:grpSpPr>
        <p:sp>
          <p:nvSpPr>
            <p:cNvPr id="455" name=""/>
            <p:cNvSpPr/>
            <p:nvPr/>
          </p:nvSpPr>
          <p:spPr>
            <a:xfrm>
              <a:off x="8242200" y="101592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023560" y="101592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hw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41880" y="19684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008640" y="22096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1880" y="27558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008640" y="29970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056760" y="196848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158280" y="236196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56760" y="26668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269440" y="20066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535840" y="22478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15560" y="29970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226600" y="1981080"/>
              <a:ext cx="1320840" cy="85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25360" y="1968480"/>
              <a:ext cx="533160" cy="109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245520" y="2997000"/>
              <a:ext cx="2806560" cy="303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45520" y="2413080"/>
              <a:ext cx="1981080" cy="131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12000" y="1968480"/>
              <a:ext cx="533520" cy="69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12000" y="2755800"/>
              <a:ext cx="533520" cy="69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796000" y="1015920"/>
            <a:ext cx="235692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st-structu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GG gene i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[ mmu:26416 ]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mmu:328788 ]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26400" y="7035840"/>
            <a:ext cx="449424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path:mmu04010 MAPK signali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h:mmu04370 VEGF signaling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959520" y="7137360"/>
            <a:ext cx="914400" cy="10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86280" y="7746840"/>
            <a:ext cx="228600" cy="50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761720" y="1739880"/>
            <a:ext cx="100332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394840" y="4000680"/>
            <a:ext cx="4533840" cy="2793960"/>
            <a:chOff x="8394840" y="4000680"/>
            <a:chExt cx="4533840" cy="2793960"/>
          </a:xfrm>
        </p:grpSpPr>
        <p:sp>
          <p:nvSpPr>
            <p:cNvPr id="479" name=""/>
            <p:cNvSpPr/>
            <p:nvPr/>
          </p:nvSpPr>
          <p:spPr>
            <a:xfrm>
              <a:off x="8394840" y="400068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176200" y="400068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hw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894520" y="49532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161280" y="51944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894520" y="57405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61280" y="59817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209400" y="495324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10920" y="534672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209400" y="56516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422080" y="49914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688480" y="52326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968200" y="59817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66640" y="4876920"/>
              <a:ext cx="1231920" cy="71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078000" y="5448600"/>
              <a:ext cx="533160" cy="596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283680" y="5981760"/>
              <a:ext cx="2921040" cy="312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283680" y="5397840"/>
              <a:ext cx="2095560" cy="129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740960" y="8140680"/>
            <a:ext cx="95130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[ path:mmu04210 Apoptosis, path:mmu04010 MAPK signaling, ...]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path:mmu04010 MAPK signaling , path:mmu04620 Toll-like receptor, ...]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31840" y="8204040"/>
            <a:ext cx="8141040" cy="330480"/>
          </a:xfrm>
          <a:prstGeom prst="roundRect">
            <a:avLst>
              <a:gd name="adj" fmla="val 50000"/>
            </a:avLst>
          </a:prstGeom>
          <a:solidFill>
            <a:srgbClr val="cdcdcd">
              <a:alpha val="50000"/>
            </a:srgbClr>
          </a:solidFill>
          <a:ln w="1260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943600" y="1994040"/>
            <a:ext cx="1968480" cy="330120"/>
          </a:xfrm>
          <a:prstGeom prst="roundRect">
            <a:avLst>
              <a:gd name="adj" fmla="val 50000"/>
            </a:avLst>
          </a:prstGeom>
          <a:solidFill>
            <a:srgbClr val="cdcdcd">
              <a:alpha val="50000"/>
            </a:srgbClr>
          </a:solidFill>
          <a:ln w="1260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58280" y="2286000"/>
            <a:ext cx="358560" cy="590544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031840" y="2362320"/>
            <a:ext cx="8750160" cy="6464160"/>
            <a:chOff x="2031840" y="2362320"/>
            <a:chExt cx="8750160" cy="6464160"/>
          </a:xfrm>
        </p:grpSpPr>
        <p:sp>
          <p:nvSpPr>
            <p:cNvPr id="500" name=""/>
            <p:cNvSpPr/>
            <p:nvPr/>
          </p:nvSpPr>
          <p:spPr>
            <a:xfrm>
              <a:off x="2031840" y="8496360"/>
              <a:ext cx="8750160" cy="330120"/>
            </a:xfrm>
            <a:prstGeom prst="roundRect">
              <a:avLst>
                <a:gd name="adj" fmla="val 50000"/>
              </a:avLst>
            </a:prstGeom>
            <a:solidFill>
              <a:srgbClr val="cdcdcd">
                <a:alpha val="50000"/>
              </a:srgbClr>
            </a:solidFill>
            <a:ln w="1260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43600" y="2362320"/>
              <a:ext cx="1981080" cy="330120"/>
            </a:xfrm>
            <a:prstGeom prst="roundRect">
              <a:avLst>
                <a:gd name="adj" fmla="val 50000"/>
              </a:avLst>
            </a:prstGeom>
            <a:solidFill>
              <a:srgbClr val="cdcdcd">
                <a:alpha val="50000"/>
              </a:srgbClr>
            </a:solidFill>
            <a:ln w="1260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56360" y="2692440"/>
              <a:ext cx="1184040" cy="5931000"/>
            </a:xfrm>
            <a:prstGeom prst="pie">
              <a:avLst/>
            </a:prstGeom>
            <a:noFill/>
            <a:ln w="19080">
              <a:solidFill>
                <a:srgbClr val="ff271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9435960" y="4888080"/>
            <a:ext cx="2197080" cy="48420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245520" y="1903320"/>
            <a:ext cx="2387520" cy="30636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8DE3-9E0B-4A35-919E-CE2EA56850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 flipV="1">
            <a:off x="4991040" y="4009680"/>
            <a:ext cx="0" cy="1917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84960" y="7035840"/>
            <a:ext cx="2706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54760" y="448308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280040" y="4483080"/>
            <a:ext cx="614160" cy="5461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559720" y="934236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800" tIns="0" bIns="0" anchor="t">
            <a:noAutofit/>
          </a:bodyPr>
          <a:p>
            <a:pPr marL="55440">
              <a:lnSpc>
                <a:spcPct val="92000"/>
              </a:lnSpc>
              <a:tabLst>
                <a:tab algn="l" pos="0"/>
                <a:tab algn="l" pos="50760"/>
                <a:tab algn="l" pos="685800"/>
                <a:tab algn="l" pos="1333440"/>
                <a:tab algn="l" pos="1968480"/>
                <a:tab algn="l" pos="2603520"/>
                <a:tab algn="l" pos="3251160"/>
                <a:tab algn="l" pos="3886200"/>
                <a:tab algn="l" pos="4533840"/>
                <a:tab algn="l" pos="5168880"/>
                <a:tab algn="l" pos="5803920"/>
                <a:tab algn="l" pos="6451560"/>
                <a:tab algn="l" pos="7086600"/>
                <a:tab algn="l" pos="7709040"/>
                <a:tab algn="l" pos="8356680"/>
                <a:tab algn="l" pos="8991720"/>
                <a:tab algn="l" pos="9639360"/>
                <a:tab algn="l" pos="10274400"/>
                <a:tab algn="l" pos="10909440"/>
                <a:tab algn="l" pos="11557080"/>
                <a:tab algn="l" pos="12192120"/>
                <a:tab algn="l" pos="12827160"/>
                <a:tab algn="l" pos="1283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 meeting,Santa Barbara, CA, July  2009 - P. Mis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74760" y="-114480"/>
            <a:ext cx="972324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635040"/>
                <a:tab algn="l" pos="1282680"/>
                <a:tab algn="l" pos="1917720"/>
                <a:tab algn="l" pos="2552760"/>
                <a:tab algn="l" pos="3200400"/>
                <a:tab algn="l" pos="3835440"/>
                <a:tab algn="l" pos="4483080"/>
                <a:tab algn="l" pos="5105520"/>
                <a:tab algn="l" pos="5740560"/>
                <a:tab algn="l" pos="6388200"/>
                <a:tab algn="l" pos="7023240"/>
                <a:tab algn="l" pos="7658280"/>
                <a:tab algn="l" pos="8305920"/>
                <a:tab algn="l" pos="8940960"/>
                <a:tab algn="l" pos="9588600"/>
                <a:tab algn="l" pos="10223640"/>
                <a:tab algn="l" pos="10858680"/>
                <a:tab algn="l" pos="11506320"/>
                <a:tab algn="l" pos="12141360"/>
                <a:tab algn="l" pos="12776040"/>
                <a:tab algn="l" pos="12789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ance managem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1266840" y="2316240"/>
            <a:ext cx="1701720" cy="2897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4483080" y="851040"/>
            <a:ext cx="1015920" cy="915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4354560" y="2792520"/>
            <a:ext cx="1295280" cy="1269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181320" y="2400480"/>
            <a:ext cx="11314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v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7080" y="1579680"/>
            <a:ext cx="2070000" cy="70632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73920" y="1219320"/>
            <a:ext cx="10857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24960" y="2768760"/>
            <a:ext cx="2184480" cy="1269720"/>
          </a:xfrm>
          <a:prstGeom prst="roundRect">
            <a:avLst>
              <a:gd name="adj" fmla="val 15000"/>
            </a:avLst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enance cap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070680" y="2844720"/>
            <a:ext cx="2006640" cy="1130400"/>
          </a:xfrm>
          <a:prstGeom prst="rightArrow">
            <a:avLst>
              <a:gd name="adj1" fmla="val 32000"/>
              <a:gd name="adj2" fmla="val 49441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4560" y="1066680"/>
            <a:ext cx="2743200" cy="1244880"/>
          </a:xfrm>
          <a:prstGeom prst="rect">
            <a:avLst/>
          </a:prstGeom>
          <a:solidFill>
            <a:srgbClr val="84d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enanc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 ar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946200" y="2336760"/>
            <a:ext cx="64764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6600" y="0"/>
            <a:ext cx="10573560" cy="7412400"/>
            <a:chOff x="66600" y="0"/>
            <a:chExt cx="10573560" cy="7412400"/>
          </a:xfrm>
        </p:grpSpPr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66600" y="0"/>
              <a:ext cx="15750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9042480" y="6769080"/>
              <a:ext cx="15976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2560"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 rot="5400000">
            <a:off x="9080280" y="4749480"/>
            <a:ext cx="1676520" cy="851040"/>
          </a:xfrm>
          <a:prstGeom prst="rightArrow">
            <a:avLst>
              <a:gd name="adj1" fmla="val 32000"/>
              <a:gd name="adj2" fmla="val 65665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023560" y="7861320"/>
            <a:ext cx="1562040" cy="685800"/>
          </a:xfrm>
          <a:prstGeom prst="rect">
            <a:avLst/>
          </a:prstGeom>
          <a:solidFill>
            <a:srgbClr val="84d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375920" y="748044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43880" y="6553080"/>
            <a:ext cx="1879560" cy="952560"/>
          </a:xfrm>
          <a:prstGeom prst="roundRect">
            <a:avLst>
              <a:gd name="adj" fmla="val 20000"/>
            </a:avLst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0400" y="5029200"/>
            <a:ext cx="992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2692440" y="1181160"/>
            <a:ext cx="419040" cy="40788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3035160" y="5969160"/>
            <a:ext cx="3327480" cy="2171520"/>
            <a:chOff x="3035160" y="5969160"/>
            <a:chExt cx="3327480" cy="2171520"/>
          </a:xfrm>
        </p:grpSpPr>
        <p:sp>
          <p:nvSpPr>
            <p:cNvPr id="534" name=""/>
            <p:cNvSpPr/>
            <p:nvPr/>
          </p:nvSpPr>
          <p:spPr>
            <a:xfrm>
              <a:off x="3035160" y="5969160"/>
              <a:ext cx="3327480" cy="2171520"/>
            </a:xfrm>
            <a:prstGeom prst="rect">
              <a:avLst/>
            </a:prstGeom>
            <a:solidFill>
              <a:srgbClr val="9a9a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00400" y="6514920"/>
              <a:ext cx="2869920" cy="711000"/>
            </a:xfrm>
            <a:prstGeom prst="roundRect">
              <a:avLst>
                <a:gd name="adj" fmla="val 26782"/>
              </a:avLst>
            </a:prstGeom>
            <a:solidFill>
              <a:srgbClr val="cdcd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ctr">
              <a:noAutofit/>
            </a:bodyPr>
            <a:p>
              <a:pPr marL="52560"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s brow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4840" y="5994360"/>
              <a:ext cx="21283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 algn="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s 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74840" y="7365960"/>
              <a:ext cx="2908440" cy="710640"/>
            </a:xfrm>
            <a:prstGeom prst="roundRect">
              <a:avLst>
                <a:gd name="adj" fmla="val 26782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ctr">
              <a:noAutofit/>
            </a:bodyPr>
            <a:p>
              <a:pPr marL="5256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brow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9"/>
          <a:stretch/>
        </p:blipFill>
        <p:spPr>
          <a:xfrm>
            <a:off x="851040" y="6540480"/>
            <a:ext cx="1031760" cy="927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689120" y="6794640"/>
            <a:ext cx="1270080" cy="368280"/>
          </a:xfrm>
          <a:prstGeom prst="leftRightArrow">
            <a:avLst>
              <a:gd name="adj1" fmla="val 32000"/>
              <a:gd name="adj2" fmla="val 15174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628720" y="3489480"/>
            <a:ext cx="168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991040" y="166644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46120" y="1892160"/>
            <a:ext cx="992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C89-ADD7-47EC-BF03-6F2F15908D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56080" y="8026560"/>
            <a:ext cx="5689440" cy="1523880"/>
            <a:chOff x="3556080" y="8026560"/>
            <a:chExt cx="5689440" cy="1523880"/>
          </a:xfrm>
        </p:grpSpPr>
        <p:sp>
          <p:nvSpPr>
            <p:cNvPr id="545" name=""/>
            <p:cNvSpPr/>
            <p:nvPr/>
          </p:nvSpPr>
          <p:spPr>
            <a:xfrm>
              <a:off x="3556080" y="8026560"/>
              <a:ext cx="56894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56080" y="8026560"/>
              <a:ext cx="56894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767040" y="8331120"/>
            <a:ext cx="537696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711360" y="6257880"/>
            <a:ext cx="5486400" cy="3048120"/>
            <a:chOff x="711360" y="6257880"/>
            <a:chExt cx="5486400" cy="3048120"/>
          </a:xfrm>
        </p:grpSpPr>
        <p:sp>
          <p:nvSpPr>
            <p:cNvPr id="549" name=""/>
            <p:cNvSpPr/>
            <p:nvPr/>
          </p:nvSpPr>
          <p:spPr>
            <a:xfrm>
              <a:off x="711360" y="6257880"/>
              <a:ext cx="5486400" cy="304812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58960" y="6405480"/>
              <a:ext cx="518940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914400" y="2133720"/>
            <a:ext cx="518148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User Pro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ri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Develop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Credits and At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ine control over priv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P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ed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Enac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11360" y="507960"/>
            <a:ext cx="7111800" cy="1117440"/>
            <a:chOff x="711360" y="507960"/>
            <a:chExt cx="7111800" cy="1117440"/>
          </a:xfrm>
        </p:grpSpPr>
        <p:sp>
          <p:nvSpPr>
            <p:cNvPr id="553" name=""/>
            <p:cNvSpPr/>
            <p:nvPr/>
          </p:nvSpPr>
          <p:spPr>
            <a:xfrm>
              <a:off x="711360" y="507960"/>
              <a:ext cx="711180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1760" y="639720"/>
              <a:ext cx="700992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04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yExperiment Feature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92920" y="1828800"/>
            <a:ext cx="5626080" cy="6962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16200000">
            <a:off x="-744840" y="7512840"/>
            <a:ext cx="191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Distin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rcRect l="13219" t="0" r="11380" b="0"/>
          <a:stretch/>
        </p:blipFill>
        <p:spPr>
          <a:xfrm>
            <a:off x="609480" y="406440"/>
            <a:ext cx="8331480" cy="289872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58" name="" descr=""/>
          <p:cNvPicPr/>
          <p:nvPr/>
        </p:nvPicPr>
        <p:blipFill>
          <a:blip r:embed="rId2"/>
          <a:srcRect l="12853" t="0" r="11854" b="0"/>
          <a:stretch/>
        </p:blipFill>
        <p:spPr>
          <a:xfrm>
            <a:off x="1320840" y="1828800"/>
            <a:ext cx="8331120" cy="453708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59" name="" descr=""/>
          <p:cNvPicPr/>
          <p:nvPr/>
        </p:nvPicPr>
        <p:blipFill>
          <a:blip r:embed="rId3"/>
          <a:srcRect l="12145" t="0" r="11251" b="0"/>
          <a:stretch/>
        </p:blipFill>
        <p:spPr>
          <a:xfrm>
            <a:off x="2336760" y="3251160"/>
            <a:ext cx="8331120" cy="425304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60" name="" descr=""/>
          <p:cNvPicPr/>
          <p:nvPr/>
        </p:nvPicPr>
        <p:blipFill>
          <a:blip r:embed="rId4"/>
          <a:srcRect l="12822" t="0" r="12070" b="0"/>
          <a:stretch/>
        </p:blipFill>
        <p:spPr>
          <a:xfrm>
            <a:off x="3251160" y="5011560"/>
            <a:ext cx="8331120" cy="323712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5"/>
          <a:srcRect l="12806" t="0" r="12179" b="27191"/>
          <a:stretch/>
        </p:blipFill>
        <p:spPr>
          <a:xfrm>
            <a:off x="4165560" y="6840360"/>
            <a:ext cx="8331120" cy="260856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grpSp>
        <p:nvGrpSpPr>
          <p:cNvPr id="562" name=""/>
          <p:cNvGrpSpPr/>
          <p:nvPr/>
        </p:nvGrpSpPr>
        <p:grpSpPr>
          <a:xfrm>
            <a:off x="9855360" y="304920"/>
            <a:ext cx="2743200" cy="1627200"/>
            <a:chOff x="9855360" y="304920"/>
            <a:chExt cx="2743200" cy="1627200"/>
          </a:xfrm>
        </p:grpSpPr>
        <p:sp>
          <p:nvSpPr>
            <p:cNvPr id="563" name=""/>
            <p:cNvSpPr/>
            <p:nvPr/>
          </p:nvSpPr>
          <p:spPr>
            <a:xfrm>
              <a:off x="9855360" y="304920"/>
              <a:ext cx="2743200" cy="162576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934560" y="306360"/>
              <a:ext cx="257832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4480" tIns="38160" bIns="38160" anchor="ctr">
              <a:no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cks in Practice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2031840"/>
            <a:ext cx="12995280" cy="51818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656160" y="7823160"/>
            <a:ext cx="83325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507960" y="507960"/>
            <a:ext cx="4368960" cy="1117440"/>
            <a:chOff x="507960" y="507960"/>
            <a:chExt cx="4368960" cy="1117440"/>
          </a:xfrm>
        </p:grpSpPr>
        <p:sp>
          <p:nvSpPr>
            <p:cNvPr id="568" name=""/>
            <p:cNvSpPr/>
            <p:nvPr/>
          </p:nvSpPr>
          <p:spPr>
            <a:xfrm>
              <a:off x="507960" y="507960"/>
              <a:ext cx="4368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0520" y="685800"/>
              <a:ext cx="4267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320" tIns="38160" bIns="38160" anchor="ctr">
              <a:noAutofit/>
            </a:bodyPr>
            <a:p>
              <a:pPr marL="34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xporting pac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rcRect l="17584" t="11029" r="17534" b="13260"/>
          <a:stretch/>
        </p:blipFill>
        <p:spPr>
          <a:xfrm>
            <a:off x="101520" y="1727280"/>
            <a:ext cx="8856720" cy="721368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304920" y="406440"/>
            <a:ext cx="5790960" cy="1117440"/>
            <a:chOff x="304920" y="406440"/>
            <a:chExt cx="5790960" cy="1117440"/>
          </a:xfrm>
        </p:grpSpPr>
        <p:sp>
          <p:nvSpPr>
            <p:cNvPr id="572" name=""/>
            <p:cNvSpPr/>
            <p:nvPr/>
          </p:nvSpPr>
          <p:spPr>
            <a:xfrm>
              <a:off x="304920" y="406440"/>
              <a:ext cx="5790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5320" y="584280"/>
              <a:ext cx="5689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-Laboratory Lifecyc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9042480" y="507960"/>
            <a:ext cx="3759120" cy="80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ocal projects using Taverna and/or my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y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n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besity eLa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ared Geno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rohu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ombeC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ifeGu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BB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yExperimenta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914400" y="1727280"/>
            <a:ext cx="7912080" cy="5214960"/>
            <a:chOff x="914400" y="1727280"/>
            <a:chExt cx="7912080" cy="5214960"/>
          </a:xfrm>
        </p:grpSpPr>
        <p:sp>
          <p:nvSpPr>
            <p:cNvPr id="576" name=""/>
            <p:cNvSpPr/>
            <p:nvPr/>
          </p:nvSpPr>
          <p:spPr>
            <a:xfrm>
              <a:off x="914400" y="1727280"/>
              <a:ext cx="7912080" cy="521496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14400" y="2141640"/>
              <a:ext cx="7912080" cy="43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st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rent practice of early adoptors of e-Labs tools such as Taverna, ELNs, LIM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ed by researchers using tools within their particular problem area, with some re-use of tools, data and methods within the discipli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itional publishing is supplemented by publication of some digital items like workflows and links to dat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is recorded but not shared and re-u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ience is accelerated and practice beginning to shift to emphasi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silico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04920" y="406440"/>
            <a:ext cx="5790960" cy="1117440"/>
            <a:chOff x="304920" y="406440"/>
            <a:chExt cx="5790960" cy="1117440"/>
          </a:xfrm>
        </p:grpSpPr>
        <p:sp>
          <p:nvSpPr>
            <p:cNvPr id="579" name=""/>
            <p:cNvSpPr/>
            <p:nvPr/>
          </p:nvSpPr>
          <p:spPr>
            <a:xfrm>
              <a:off x="304920" y="406440"/>
              <a:ext cx="5790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5320" y="584280"/>
              <a:ext cx="5689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-Laboratory Evolu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438280" y="2540160"/>
            <a:ext cx="7912080" cy="6095880"/>
            <a:chOff x="2438280" y="2540160"/>
            <a:chExt cx="7912080" cy="6095880"/>
          </a:xfrm>
        </p:grpSpPr>
        <p:sp>
          <p:nvSpPr>
            <p:cNvPr id="582" name=""/>
            <p:cNvSpPr/>
            <p:nvPr/>
          </p:nvSpPr>
          <p:spPr>
            <a:xfrm>
              <a:off x="2438280" y="2540160"/>
              <a:ext cx="7912080" cy="6095880"/>
            </a:xfrm>
            <a:prstGeom prst="rect">
              <a:avLst/>
            </a:prstGeom>
            <a:solidFill>
              <a:srgbClr val="ffe2a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38280" y="3179880"/>
              <a:ext cx="79120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nd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ing and delivering now, based on experience with Taverna, myExperiment and Lablo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characteristic is re-use - of the increasing pool of tools, data and methods, across areas &amp; discipline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ain some freestanding, recombinant, reproducible Research Object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analytics plays a ro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t curation supplemented by community cur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scientific practices are established and opportunities arise for completely new scientific investig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253040" y="3352680"/>
            <a:ext cx="7912080" cy="6197760"/>
            <a:chOff x="4253040" y="3352680"/>
            <a:chExt cx="7912080" cy="6197760"/>
          </a:xfrm>
        </p:grpSpPr>
        <p:sp>
          <p:nvSpPr>
            <p:cNvPr id="585" name=""/>
            <p:cNvSpPr/>
            <p:nvPr/>
          </p:nvSpPr>
          <p:spPr>
            <a:xfrm>
              <a:off x="4253040" y="3352680"/>
              <a:ext cx="7912080" cy="619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53040" y="3636720"/>
              <a:ext cx="791208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rd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ision - the e-Labs we'll be delivering in 5 years - illustrated by open science and open source scie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ed by global reuse of tools, data and methods across any discipline, and surfacing the right levels of complexity for the researche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characteristic i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cal shar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arch is significantly data driven - plundering the backlog of data, results and method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arch Objects supersede pape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ing automation and decision-support for the researcher - the e-Laboratory becomes assistiv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assists desig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ation is autonomic and soci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rely new research outcomes are obtai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